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217-6115-478A-9EDF-F47EED38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30C-99A0-43E4-86A5-EBA583BB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9039-76DF-4977-A575-79478A58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66B-DE87-4961-8508-737B64E0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D3BC-F82F-4A2A-BCB1-11150DDC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FA78-7032-4FB5-B338-6FD80F3C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54B1-70D9-450F-92E8-912E2FC9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2A35-C1E5-4FB0-A087-19B68CD6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F88D-F900-465D-88D4-80CF1400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8C51-7117-4FBA-A6CF-C36F8C0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0D89-6ED3-475D-890A-7EB43C30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DED-1519-418F-AD83-94A1F6C6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5374-0BE4-4874-BAE4-AC22F581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F8C1-B4CD-471B-832A-039D415E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0A31-3EB0-4825-961A-F81AEBB3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D3BC-C9EF-4EE4-BF55-6BA44D43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FB2A-1E98-45FF-933C-09EFD3C7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3CB-D3D4-4C0F-A356-5F3EBD0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816-5534-4A09-A1CE-70FF2C74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3A2-788C-423B-9102-ED3E75C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79F-5E3B-4641-BD94-543C2913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847-56BE-45F3-A183-7E2672F0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803-6AD4-4DBD-AC74-E126A4F9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A8A-ABEA-4A53-B872-F8E071C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83E-0EA4-44CB-8A8D-51BC7CE094A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C0C-9D16-458D-8FF7-CB880FAA5B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bf1f"/>
                </a:solidFill>
                <a:latin typeface="Garamond"/>
              </a:rPr>
              <a:t>EFFECTS OF EUROPEAN COLONIALISM ON AFRICA</a:t>
            </a:r>
            <a:endParaRPr b="0" lang="en-US" sz="52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had access to cheap labor sour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spent money to establish “basics” of society like government and judicial system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provided Europe with strategic military and economic advant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had to fight against colonial pow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Africans were forced into hard labor for low w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made transportation links and trade routes betwee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ost control over natural resour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br>
              <a:rPr sz="4000"/>
            </a:b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educated abroad came back and helped their countries. Missionaries came to Afric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settlers appropriated (took) good land, taking it away from Afric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divided Africa with no regard to groups and cultu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earned some things about market econom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gitimacy of traditional African practices was undermined.  (There was nothing wrong with African culture to begin with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al rule in many places, especially the Congo, was morally repugnant.  (That means it just wasn’t righ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received natural resources from colonies, which fed the Industrial Revolution in Europ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s were converted to Christianit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had to fight against rebell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developed trade relationships with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Imperialism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 leaders were removed from powe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somewhat improved transportation and communication infrastructures, health facilities, housing and edu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were not properly prepared for indepen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07:19Z</dcterms:created>
  <dc:creator>Cincinnati Public Schools</dc:creator>
  <dc:description/>
  <dc:language>en-US</dc:language>
  <cp:lastModifiedBy>Cincinnati Public Schools</cp:lastModifiedBy>
  <dcterms:modified xsi:type="dcterms:W3CDTF">2011-10-17T15:05:52Z</dcterms:modified>
  <cp:revision>6</cp:revision>
  <dc:subject/>
  <dc:title>Slide 1</dc:title>
</cp:coreProperties>
</file>